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1CEC-1466-49AC-8E4B-F2B84A4B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FBFD-1D06-4AE0-BBEE-E394CCF8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D58F-6B6A-4012-860C-AFEA0CE0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B8CC-8DEB-4F2B-8437-48347A79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FA7A-83FE-419E-854F-A95A4933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5BA0-A6A8-43D6-83E9-ED444812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EC79-2544-4129-9506-6260F560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3468-6DDF-4B33-8052-C2EA6457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BD73-D6E0-496E-9400-F21E5630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582B-9D00-4368-8C11-A5B28806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D810-B012-49EA-BA6F-7254C9B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1CC4-945D-41C7-95A7-CD34E9C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0F70-0480-4FEC-A94F-11D63E2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C2BA-4111-4103-92EC-40200165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7829-A3F0-435D-9946-A2D5938D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DB9B-8A18-46F3-A2BC-BB5ADEB6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7569-C652-4B9F-B468-AA1F83BF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7849-D1DA-4370-8093-592489BC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01ED-0AFA-4588-B32A-3252354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2546-9783-4770-A49A-EC951227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C230-3DBA-455C-9BC3-77EE56A9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330B-1228-418F-87D6-B98BDC2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CB31-7978-4DC9-9845-F34A990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F4C6-1680-4A47-AC8E-36350AC1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7F4-2AB0-4AC0-8BFD-D1FEF20B0AF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F3E-C2D9-41DA-B4E6-9529B7EB160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49644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88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ха нощ! Свята нощ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яла зем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в тишин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ж, витлеемската светла звезд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ъдреци води от чужда стран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дето Христос се роди!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ха нощ! Свята нощ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сен се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охвал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 пеят със радостен гл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 за спасение донасят до нас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"Ето, Спасител дойде!"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35828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ха нощ! Свята нощ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яла зем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й с веселб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чит на Бога нек всеки дад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между нас днес Спасител дойде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Мир за всегда на земя!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12-24T17:13:51Z</dcterms:modified>
  <cp:revision>55</cp:revision>
  <dc:subject/>
  <dc:title>Slide 1</dc:title>
</cp:coreProperties>
</file>